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5899-3080-4AC1-BFB7-1A6FD203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2FCB-23AE-4BE1-916C-A3B98FCC4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440-BF80-4831-B577-AC9D8218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A63-D643-4CC5-B1FA-334A6B11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042-03FB-4955-BCCF-5C1C7ADC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7FF-BA99-4F1C-BF32-71359468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DCF-B603-49E5-8835-BF650E80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AD9-0B6F-4D1E-9588-9DD7E4D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693-7B54-4B0A-895B-47311099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DE6-7556-481A-AB93-DEE14CE7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CD9-B74B-431E-8ACA-41FF8DD4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8CE-4458-4E25-91F5-3503429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628-84E8-490E-8FD3-34AF9A5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D81-37AB-4E85-B5F4-069B44D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471-56F2-4681-9419-637AE8584B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in the Patriarchal Discourse: </a:t>
            </a:r>
            <a:r>
              <a:rPr b="0" i="1" lang="en-US" sz="4400" spc="-1" strike="noStrike">
                <a:solidFill>
                  <a:srgbClr val="ffffff"/>
                </a:solidFill>
                <a:latin typeface="Monotype Corsiva"/>
              </a:rPr>
              <a:t>Hamlet’s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Opheli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640548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egan Bann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ydney Mo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yler Se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on Yu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rk Wunde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 is the ultimate material associated with cleansing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rification, ablution, baptism in Christia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ly, a body is washed and dressed before burial - it’s an important aspect of charitable care for the departed.  By means of drowning, Ophelia is seemingly neglected by the family, washes hersel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xual, emotional clea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http://www.english.emory.edu/classes/Shakespeare_Illustrated/Delacroix.Ophelia.jpg"/>
          <p:cNvPicPr/>
          <p:nvPr/>
        </p:nvPicPr>
        <p:blipFill>
          <a:blip r:embed="rId1"/>
          <a:stretch/>
        </p:blipFill>
        <p:spPr>
          <a:xfrm>
            <a:off x="4952880" y="1828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114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e fluidity contrasts masculine arid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ments of water associated with the woman: tears, blood, mil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ater - an essential element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ertes contrasts Ophelia’s response to Polonius’ death; Ophelia drowns, Laertes fights. Act 4. Sc. 7 “Too much of water hast though, poor Ophelia, And therefore I forbid my tears.” Act 4. Sc. 5 “I cannot choose but weep to think they would lay him I’ th’ cold ground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http://i268.photobucket.com/albums/jj25/lugarcia_2007/tears.jpg"/>
          <p:cNvPicPr/>
          <p:nvPr/>
        </p:nvPicPr>
        <p:blipFill>
          <a:blip r:embed="rId2"/>
          <a:stretch/>
        </p:blipFill>
        <p:spPr>
          <a:xfrm>
            <a:off x="6324480" y="3429000"/>
            <a:ext cx="25117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422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owning is considered a very feminine way of dy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which is a beautiful immersion and submersion in the female elemen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 4. Sc. 7 “And one incapable of her own distress Or like a creature native and endued Unto that elemen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040" y="44956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differs from other famous women of the water (Venus rises from the sea at her birth, Ophelia ends and stays in the se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ver receives a dignified death; by drowning, her ashes won’t mix with those noble men; being a woman, she is insignificant.  Even when she is to be properly buried, Act. 5, Sc. 1, “Is she to be buried in Christian burial, when she willfully seeks her own sal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http://1.bp.blogspot.com/_v325hwjmyy4/SnzR9H02grI/AAAAAAAAAVo/BWXXgCz3sMM/S1600-R/Ophelia2(small).jpg"/>
          <p:cNvPicPr/>
          <p:nvPr/>
        </p:nvPicPr>
        <p:blipFill>
          <a:blip r:embed="rId1"/>
          <a:stretch/>
        </p:blipFill>
        <p:spPr>
          <a:xfrm>
            <a:off x="2209680" y="990720"/>
            <a:ext cx="495324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Symbolic Deflowering”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izabethans would have recognized the flow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at Ophelia clutched to when she drowned as phall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s, indicative of her repressed long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e madness with the adornment of wi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owers portrayed “symbolic deflower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osemar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was given as a token of rememb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tween lo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nsi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represented erotic thou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enne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symbolized not only flattery but als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ckleness in love and even women’s sexu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lumb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symbol of adult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304776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4646520"/>
            <a:ext cx="312408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4575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Symbolic Deflowering”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1320" y="4646520"/>
            <a:ext cx="312408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1143000"/>
            <a:ext cx="4800600" cy="69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u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orrow/repentance but was even thought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ate carnal l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ais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elf sacrifice for love/dissembling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se garlands that she drowns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present the conflicting feelings (innocence, pain, and sexuality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at caused her to need an escape from her oppressive lifesty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flowers suggest a contradiction of female sexuality as both “innocent blossoming and whorish contamination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Madness as Sexual Exces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066680"/>
            <a:ext cx="541044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nor and virginity were the basis for a woman’s value in a patriarchal socie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y feminist critics have suggested that Ophelia's madness is directly related to her sexual n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 went mad for reasons like mental or physical st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men’s madness was associated with their bodies and erotic des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ctors believed that the cause of hysteria in women was lack of sex/social helpless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 some critics reason that Ophelia’s death was caused by Polonius who prevented her from marrying Ham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he was then unable to fulfill her natural role as wife/sexual being and her suicide was “immine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44960" cy="50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t 3, Scene 2- When Hamlet tw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’s words/degrades her with a sexual innu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phelia: 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“I think nothing, my lo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Hamlet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That’s a fair thought to lie between a maid’s legs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phelia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What is, my lord?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Hamlet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Nothing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phelia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You are merry, my lor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t 4, Scene 5- Ophelia’s gone mad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Gentleman insists her speech doesn’t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Gentleman: 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“Her speech is nothing /Yet the unshap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Use of it doth move the hearers to collection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’s thoughts mean nothing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blic terms defined by the cou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he’s deprived of thought, sexuality, and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n she drowns, Ophelia wears virginal white (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color) which contrasts with Hamlet’s “suits of solemn blac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s refer to her story as the Story of Zero or “mystery of feminine differenc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 Creature of Lack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620800" cy="401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Women in England during Shakespeare’s Time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ad very limited rights: they were deni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mal education and the chance to hold pub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ffice or other professions such as law, medicin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ildbearing was considered a great hon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idered a threat to the publ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n belief that women always needed someone to look after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 woman could vo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lthough denied a formal educ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ny women of this time period were high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ducated due to the use of private tuto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ngle women often accused of being witches/looked upon wit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unmarried women could inherit property and sign contra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omen were encouraged to write literature, mainly religiou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988920" y="1750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24180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76516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Doubl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807696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mlet ‘s past can be read through his father, his education, and his relationship with his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ent feminist critics see the lack of Ophelia’s pa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 representative of a double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e can imagine Hamlet’s story with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, but Ophelia literally has no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out Hamle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ct 1 Scene 3, Polonius sends Laertes off urg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m to use his judgment and learn through 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ut he does not put that trust in Ophelia’s convi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amlet’s l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lonius to Opheli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ffection, puh!  You speak like a gre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girl…think yourself a baby That you have ta’en the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enders for true pay, which are not sterling…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was never given the chance to develop an independent con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tifled is she by the authority of the male worl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as madness for Hamlet is metaphysical, linked with culture, for Ophelia it is a product of the female body and female nature, perhaps that nature’s purest form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dresses in white, decks herself with “fantastical garlands” of wild flowers and enters “distracted,” playing a lute, with her hair down, sing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ity is displayed through apparent absent-minded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284796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4956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eech marked by extravagant metaphors, lyrical free associations and “explosive sexual imager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phelia: “You sing ‘A-down a-down’– and you ‘Call him a down-a.’ O, how the wheel becomes it! It is the false steward that stole his master’s daughter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aertes: “This nothing’s more than matter.”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21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ertes is saying that this nonsense speaks more eloquently than serious spe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e = eloquent, yet incohe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http://www.thehamletenigma.com/TheHamletEnigma/images/William_Gorman_Wills-Ophelia_and_Laertes.jpg"/>
          <p:cNvPicPr/>
          <p:nvPr/>
        </p:nvPicPr>
        <p:blipFill>
          <a:blip r:embed="rId1"/>
          <a:stretch/>
        </p:blipFill>
        <p:spPr>
          <a:xfrm>
            <a:off x="5715000" y="914400"/>
            <a:ext cx="23637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ally, Ophelia’s madness offers the capability of speech, the opportunity to discover individual identity, and the power to verbally undermine authority. A thorough analysis of Ophelia’s mad ramblings (and their mutual levels of meaning) provides “a singular exposé of society, of the turbulent reality beneath its surface veneer of calm” (418); but her words still suggest a fragmented self and provide others the opportunity to manipulate meanings that best suit them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3307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 initially appears “shaped to conform to external demands, to reflect others desires” (406): she is Laertes’ “angel,” Polonius’ “commodity” (407), and Hamlet’s “spectre of his psychic fears” (410). While the conflicting messages from these male/masculine sources damage Ophelia’s psychological identity, their sudden absence provokes her mental destru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is objectified by the other characters in the play, becomes a more of a possession than a charac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fore, mental deterioration is equated with individual identity in a wom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http://www.facebook.com/profile/pic.php?oid=AAAAAQAQ0ln1MBz3xJN6E9o-gkUO1AAAAAosEIq9vGxSji0W7ZAKmoIy"/>
          <p:cNvPicPr/>
          <p:nvPr/>
        </p:nvPicPr>
        <p:blipFill>
          <a:blip r:embed="rId1"/>
          <a:stretch/>
        </p:blipFill>
        <p:spPr>
          <a:xfrm>
            <a:off x="4952880" y="1219320"/>
            <a:ext cx="3353040" cy="479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division of space between Ophelia and the natural details Millais had so painstakingly pursued reduces her to one more visual object; and the painting had such a hard surface, strangely flattened perspective, and brilliant light that it seems cruelly indifferent to the woman’s death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Millais_-_Ophelia_%28detail%29"/>
          <p:cNvPicPr/>
          <p:nvPr/>
        </p:nvPicPr>
        <p:blipFill>
          <a:blip r:embed="rId1"/>
          <a:stretch/>
        </p:blipFill>
        <p:spPr>
          <a:xfrm>
            <a:off x="380880" y="0"/>
            <a:ext cx="411192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26708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81480" y="3124080"/>
            <a:ext cx="335304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 we all know, Ophelia kills herself by drow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 between Ophelia’s death and the death of Katherine Ham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idental - Act 4. Sc. 7, “Clamb’ring to hang, an envious sliver broke, When down her weedy trophies and herself fell in the weeping broo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rely an afterthought, “One woe doth thread upon another’s heel, So fast they follow.  Your sister’s drowned, Laertes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scious - Act 5. Sc. 1, “If I drown myself wittingly…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http://www.myartprints.com/kunst/paul_albert_steck/ophelia_drowning_hi.jpg"/>
          <p:cNvPicPr/>
          <p:nvPr/>
        </p:nvPicPr>
        <p:blipFill>
          <a:blip r:embed="rId1"/>
          <a:stretch/>
        </p:blipFill>
        <p:spPr>
          <a:xfrm>
            <a:off x="5334120" y="1143000"/>
            <a:ext cx="30542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2:23:23Z</dcterms:created>
  <dc:creator> Me, Myself, and I</dc:creator>
  <dc:description/>
  <dc:language>en-US</dc:language>
  <cp:lastModifiedBy>HP Authorized Customer</cp:lastModifiedBy>
  <dcterms:modified xsi:type="dcterms:W3CDTF">2010-03-22T03:37:40Z</dcterms:modified>
  <cp:revision>83</cp:revision>
  <dc:subject/>
  <dc:title>Femininity in the Patriarchal Discourse: Hamlet’s Ophelia</dc:title>
</cp:coreProperties>
</file>